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182-BA0B-4931-AF24-27CE3CF8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9000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42C-9A58-49BF-991E-ABF61E23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5E7-E38C-4F72-B9D3-0A95BB0A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FC6-809E-45FF-AE82-8D0863AB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4871-60B4-4696-BB57-5C8A1337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8FCC-15A5-4F43-9258-7F96240F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54F4-87A3-449A-8ACF-9A5814A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C9A3-412C-4B8A-93F3-CCB2FD2A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8564-1B10-450B-B2E5-E1A1A2C9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F83D-000C-4534-9FBD-E5BC245F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A225-E3DF-4495-8F1A-E3EE0658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0FB-B129-4087-9590-E4DAC003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140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7F43-B6AB-4D83-A4CA-6D30133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B66D-1DED-4069-A6B8-D14E7425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9000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B33A-BB34-4066-8568-790EB16A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140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484A-AF55-4C0C-8FB2-06E4A558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340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732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340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732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5ACD-92CB-4E44-B0C3-20F4E7A0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B91-FD13-4709-AE5C-3CACBC01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479-537D-469F-BD3F-202F8D2B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9A7-B4D0-40F3-B0F7-286836E3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931-A5F3-4D12-A8F8-5B1323B3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1E9-FF31-4C09-B635-3196CDD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BCB-2EF7-4947-AD0B-959E9172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74F-C6B2-4CCD-BA98-D30B79B7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b2337"/>
                </a:solidFill>
                <a:latin typeface="Arial Black"/>
              </a:rPr>
              <a:t>Click to edit the title text format</a:t>
            </a: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b23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b23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b23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b23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b23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0F58-DFAE-468B-A754-146D41D72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53F1-AE3E-4B00-933D-91741DF96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337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9b2337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b233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b2337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9b2337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b233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337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9b2337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9b2337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337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9b2337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337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9b2337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337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9b2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3505320"/>
            <a:ext cx="8736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Основные элементы языка UML</a:t>
            </a: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920" y="42210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2337"/>
                </a:solidFill>
                <a:latin typeface="Arial"/>
              </a:rPr>
              <a:t>Тема 2</a:t>
            </a:r>
            <a:endParaRPr b="1" lang="en-US" sz="24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AD0F-1941-4B34-AD88-C275D5E502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51" name=""/>
          <p:cNvSpPr/>
          <p:nvPr/>
        </p:nvSpPr>
        <p:spPr>
          <a:xfrm>
            <a:off x="87480" y="247680"/>
            <a:ext cx="608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Структурные сущности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- это имена существительные в моделях на языке UM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rcRect l="20134" t="24642" r="3728" b="27317"/>
          <a:stretch/>
        </p:blipFill>
        <p:spPr>
          <a:xfrm>
            <a:off x="585720" y="1606680"/>
            <a:ext cx="8018640" cy="3666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1280" y="5445000"/>
            <a:ext cx="7345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ествуют также разновидности структурных сущностей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еры, сигналы, утилиты (виды классов), процессы и нити (виды активных классов), приложения, документы, файлы, библиотеки, страницы и таблицы (виды компонент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612B-7C12-4A83-9969-FE09CCB15F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60280"/>
            <a:ext cx="67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Поведенческие сущност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Behavioral things)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являются динамическими составляющими модели UML. Это глаголы языка: они описывают поведение модели во времени и простран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3485" t="19094" r="4622" b="23251"/>
          <a:stretch/>
        </p:blipFill>
        <p:spPr>
          <a:xfrm>
            <a:off x="79200" y="1989000"/>
            <a:ext cx="896328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27AB-DE72-4EFD-B961-1A6CEA3B48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7480" y="247680"/>
            <a:ext cx="60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200" spc="-1" strike="noStrike" u="sng">
                <a:solidFill>
                  <a:srgbClr val="800000"/>
                </a:solidFill>
                <a:uFillTx/>
                <a:latin typeface="Arial"/>
              </a:rPr>
              <a:t>Группирующие сущности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 являются организующими частями модели UML. Это блоки, на которые можно разложить модель. Есть только одна первичная группирующая сущность, а именно пак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4560" y="3068640"/>
            <a:ext cx="2592360" cy="1152360"/>
          </a:xfrm>
          <a:prstGeom prst="rect">
            <a:avLst/>
          </a:prstGeom>
          <a:solidFill>
            <a:srgbClr val="fceb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 пак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4560" y="2781360"/>
            <a:ext cx="1152360" cy="287280"/>
          </a:xfrm>
          <a:prstGeom prst="rect">
            <a:avLst/>
          </a:prstGeom>
          <a:solidFill>
            <a:srgbClr val="fceb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8360" y="3068640"/>
            <a:ext cx="2592360" cy="1152360"/>
          </a:xfrm>
          <a:prstGeom prst="rect">
            <a:avLst/>
          </a:prstGeom>
          <a:solidFill>
            <a:srgbClr val="fceb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мое пак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2781360"/>
            <a:ext cx="1152360" cy="287280"/>
          </a:xfrm>
          <a:prstGeom prst="rect">
            <a:avLst/>
          </a:prstGeom>
          <a:solidFill>
            <a:srgbClr val="fceb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я пак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450864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ый пакет владеет всеми своими элементами, т.е. теми элемен­тами, которые включены в него. Про соответствующие элементы пакета говорят, что они принадлежат пакету или входят в него. При этом каждый элемент может принадлежать только одному пакету. В свою очередь, одни пакеты могут быть вложены в друг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4278-640D-47FC-BCE2-9C4EC4EC7F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7480" y="247680"/>
            <a:ext cx="6084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Аннотационные сущности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- пояснительные части модели UML. Это комментарии для дополнительного описания, разъяснения или замечания к любому элементу модели. Имеется только один базовый тип аннотационных элементов - примечание (Note).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2565360"/>
            <a:ext cx="3456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это просто символ для изображения комментариев или ограничений, присоединенных к элементу или группе эле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476360" y="3428280"/>
            <a:ext cx="2448000" cy="1152360"/>
          </a:xfrm>
          <a:prstGeom prst="foldedCorner">
            <a:avLst>
              <a:gd name="adj" fmla="val 22319"/>
            </a:avLst>
          </a:prstGeom>
          <a:solidFill>
            <a:srgbClr val="cb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36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 примеч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115C-F73C-47EB-94D8-D4B277160F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33360"/>
            <a:ext cx="5040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Отношен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являются основными связующими строительными блоками в UML и применяются для создания корректных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8088" t="21473" r="5567" b="20465"/>
          <a:stretch/>
        </p:blipFill>
        <p:spPr>
          <a:xfrm>
            <a:off x="468360" y="2421000"/>
            <a:ext cx="842148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6472-2A78-4AEE-A7D1-39F5925B2A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33360"/>
            <a:ext cx="5040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Отношен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являются основными связующими строительными блоками в UML и применяются для создания корректных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8088" t="40455" r="5696" b="13658"/>
          <a:stretch/>
        </p:blipFill>
        <p:spPr>
          <a:xfrm>
            <a:off x="395280" y="2708280"/>
            <a:ext cx="8408880" cy="324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8388-704A-462C-9BC9-9661CBC86A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333360"/>
            <a:ext cx="50403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Диаграмма </a:t>
            </a: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diagramm</a:t>
            </a: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)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- это графическое представление набора элементов, изображаемое чаще всего в виде связанного графа с вершинами (сущностями) и ребрами (отношениями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95800" y="2637000"/>
            <a:ext cx="2050920" cy="54288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классов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48480" y="2637000"/>
            <a:ext cx="2139840" cy="54288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объек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objec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2800" y="2637000"/>
            <a:ext cx="2452680" cy="54288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прецедентов (use case diagram)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800" y="3448080"/>
            <a:ext cx="2452680" cy="76212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опер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collaboration diagram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00" y="4435560"/>
            <a:ext cx="2374920" cy="76176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состояни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cha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48480" y="4433760"/>
            <a:ext cx="2139840" cy="71604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activity diag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5373720"/>
            <a:ext cx="3432240" cy="50328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последовательносте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9240" y="3498840"/>
            <a:ext cx="2496960" cy="67140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 компон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56080" y="5373720"/>
            <a:ext cx="3119400" cy="50328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 разверты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developmen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95480" y="3762360"/>
            <a:ext cx="285300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895120" y="3807000"/>
            <a:ext cx="2853000" cy="9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820960"/>
            <a:ext cx="2495520" cy="255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029040" y="2870280"/>
            <a:ext cx="2719440" cy="25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3640" y="3716280"/>
            <a:ext cx="2228760" cy="10303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тегрированная модель слож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76800" y="318456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F7AB-1C04-4B68-BE27-82631E37CE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260280"/>
            <a:ext cx="5616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Правила в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ML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пределяют как должна выглядеть хорошо оформленная модель, то есть семантически самосогласованная и находящаяся в гармонии со всеми моделями, которые с нею связ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2924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2637000"/>
            <a:ext cx="874872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воляют однозначно определ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ые можно давать сущностям, отношениям и диаграмма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ласть действ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онтекст, в котором имя имеет некоторое знач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им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огда имена видимы и могут использоваться другими элементам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ак элементы должны правильно и согласованно соотноситься друг с друго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полн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что значит выполнить или имитировать некоторую динамическую модел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804C-EE48-42F2-BCBC-3232C04601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260280"/>
            <a:ext cx="56163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Общие механизмы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ML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кстовая информация, которая расширяет семантику базовых элементов. Упрощение проектирования системы на UML и ее понимания существенно облегчает последовательное использование общих мех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924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2349360"/>
            <a:ext cx="4176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ции и До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т текстовое представление синтаксиса и семантики соответствующего строительного бл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, пиктограмме класса соответствует спецификация, полностью описывающая его атрибуты, операции (включая полные сигнатуры) и по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31840" y="3413160"/>
            <a:ext cx="1854360" cy="11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execu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rollba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iorit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imestamp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27160" y="2708280"/>
            <a:ext cx="1860480" cy="706320"/>
            <a:chOff x="1127160" y="2708280"/>
            <a:chExt cx="1860480" cy="706320"/>
          </a:xfrm>
        </p:grpSpPr>
        <p:sp>
          <p:nvSpPr>
            <p:cNvPr id="205" name=""/>
            <p:cNvSpPr/>
            <p:nvPr/>
          </p:nvSpPr>
          <p:spPr>
            <a:xfrm>
              <a:off x="1127160" y="3063960"/>
              <a:ext cx="18590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28600" y="2708280"/>
              <a:ext cx="1859040" cy="4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79280" y="4724280"/>
            <a:ext cx="41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ый элемент нотации UML содержит базовый для него символ, к которому можно добавлять разнообразные специфичные для него допол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CA1F-F468-43C7-BFC7-174E0C3532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260280"/>
            <a:ext cx="56163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Общие механизмы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ML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кстовая информация, которая расширяет семантику базовых элементов. Упрощение проектирования системы на UML и ее понимания существенно облегчает последовательное использование общих мех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2924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421000"/>
            <a:ext cx="5184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ятые 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моделировании объектно-ориентированных систем реальность членится с учетом двух под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ществует разделение на классы и объекты. Класс - это абстракция, объект - конкретная материализация этой абстра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еются прецеденты и экземпляры прецедентов, компоненты и экземпляры компонентов, узлы и экземпляры уз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фейс и его реализ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rcRect l="1159" t="25560" r="74536" b="55191"/>
          <a:stretch/>
        </p:blipFill>
        <p:spPr>
          <a:xfrm>
            <a:off x="382680" y="2679840"/>
            <a:ext cx="2808360" cy="1616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rcRect l="2078" t="82493" r="78356" b="4426"/>
          <a:stretch/>
        </p:blipFill>
        <p:spPr>
          <a:xfrm>
            <a:off x="411120" y="4508640"/>
            <a:ext cx="2870280" cy="139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DB1D-9E3F-471C-9C1F-C85E0AED20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594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Развитие ООАП до появления 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UML</a:t>
            </a: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527200"/>
            <a:ext cx="85690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дина 70-х годов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 - начали появляться отдельные языки объектно-ориентированного моде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989 – 1994 годы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- число наиболее известных языков моделирования воз­росло с 10 до более чем 50. «Война метод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дина 90-х годов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– улучшаются и приобретают самостоятельное значение отдельные методы при решении задач ООА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23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1 Основные этапы развития язык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600" y="4710240"/>
            <a:ext cx="648180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 Гради Буч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y Booc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c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c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'9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 Джеймса Румбах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Rumbaug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Mode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ОМ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 Айвара Джекобсо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r Jacobs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 О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2520" y="4768920"/>
            <a:ext cx="2152800" cy="12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ый из этих методов был ориентирован на поддержку отдельных этапов ОО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E06A-DF57-4805-911F-423032AF99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260280"/>
            <a:ext cx="56163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Общие механизмы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ML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кстовая информация, которая расширяет семантику базовых элементов. Упрощение проектирования системы на UML и ее понимания существенно облегчает последовательное использование общих мех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2924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7440" y="2681280"/>
            <a:ext cx="41054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змы расши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ереот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еченные 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ани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rcRect l="882" t="31046" r="69066" b="55012"/>
          <a:stretch/>
        </p:blipFill>
        <p:spPr>
          <a:xfrm>
            <a:off x="2627280" y="3933720"/>
            <a:ext cx="6192720" cy="21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FFDA-B32F-413B-BAF5-695BDE6CFF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60280"/>
            <a:ext cx="56163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Общие механизмы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ML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кстовая информация, которая расширяет семантику базовых элементов. Упрощение проектирования системы на UML и ее понимания существенно облегчает последовательное использование общих мех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2924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2637000"/>
            <a:ext cx="4176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т текстовое представление синтаксиса и семантики соответствующего строительного бл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, пиктограмме класса соответствует спецификация, полностью описывающая его атрибуты, операции (включая полные сигнатуры) и по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116000" y="2708280"/>
            <a:ext cx="1871280" cy="1873080"/>
            <a:chOff x="1116000" y="2708280"/>
            <a:chExt cx="1871280" cy="1873080"/>
          </a:xfrm>
        </p:grpSpPr>
        <p:sp>
          <p:nvSpPr>
            <p:cNvPr id="227" name=""/>
            <p:cNvSpPr/>
            <p:nvPr/>
          </p:nvSpPr>
          <p:spPr>
            <a:xfrm>
              <a:off x="1126800" y="3063240"/>
              <a:ext cx="1859400" cy="34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16000" y="3412800"/>
              <a:ext cx="1870200" cy="116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execut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rollback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priority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timestampt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27520" y="2708280"/>
              <a:ext cx="1859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79280" y="4724280"/>
            <a:ext cx="41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ый элемент нотации UML содержит базовый для него символ, к которому можно добавлять разнообразные специфичные для него допол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9213-8DDA-4225-B15C-88A44AF43C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32" name=""/>
          <p:cNvSpPr/>
          <p:nvPr/>
        </p:nvSpPr>
        <p:spPr>
          <a:xfrm>
            <a:off x="250920" y="189000"/>
            <a:ext cx="75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68360" y="1125360"/>
            <a:ext cx="8280360" cy="4967280"/>
            <a:chOff x="468360" y="1125360"/>
            <a:chExt cx="8280360" cy="4967280"/>
          </a:xfrm>
        </p:grpSpPr>
        <p:sp>
          <p:nvSpPr>
            <p:cNvPr id="234" name=""/>
            <p:cNvSpPr/>
            <p:nvPr/>
          </p:nvSpPr>
          <p:spPr>
            <a:xfrm>
              <a:off x="670320" y="1245240"/>
              <a:ext cx="2473920" cy="1444680"/>
            </a:xfrm>
            <a:prstGeom prst="rect">
              <a:avLst/>
            </a:prstGeom>
            <a:solidFill>
              <a:srgbClr val="e4c9ff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 с точки зрения проектир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Логическое представ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Конечный пользователь, системный аналит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0320" y="3291840"/>
              <a:ext cx="2463840" cy="1693080"/>
            </a:xfrm>
            <a:prstGeom prst="rect">
              <a:avLst/>
            </a:prstGeom>
            <a:solidFill>
              <a:srgbClr val="e4c9ff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 с точки зрения процесс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ставление процесса функционир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Системный аналитик, архитектор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8360" y="3291840"/>
              <a:ext cx="2496240" cy="1669680"/>
            </a:xfrm>
            <a:prstGeom prst="rect">
              <a:avLst/>
            </a:prstGeom>
            <a:solidFill>
              <a:srgbClr val="e4c9ff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 с точки зрения разверты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ставление размещения компон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Системный инжен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07560" y="1245240"/>
              <a:ext cx="2521800" cy="1454040"/>
            </a:xfrm>
            <a:prstGeom prst="rect">
              <a:avLst/>
            </a:prstGeom>
            <a:solidFill>
              <a:srgbClr val="e4c9ff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 с точки зр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ал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ставление реал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Архитектор системы, программис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89920" y="2053080"/>
              <a:ext cx="2322360" cy="1884960"/>
            </a:xfrm>
            <a:prstGeom prst="ellipse">
              <a:avLst/>
            </a:prstGeom>
            <a:solidFill>
              <a:srgbClr val="ffb9dc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и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 точки зрения  прецеден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Конечный пользовате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33680" y="1125360"/>
              <a:ext cx="353160" cy="1723320"/>
            </a:xfrm>
            <a:custGeom>
              <a:avLst/>
              <a:gdLst>
                <a:gd name="textAreaLeft" fmla="*/ 0 w 353160"/>
                <a:gd name="textAreaRight" fmla="*/ 127440 w 353160"/>
                <a:gd name="textAreaTop" fmla="*/ 44640 h 1723320"/>
                <a:gd name="textAreaBottom" fmla="*/ 1678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82640" y="3022560"/>
              <a:ext cx="353160" cy="2100600"/>
            </a:xfrm>
            <a:custGeom>
              <a:avLst/>
              <a:gdLst>
                <a:gd name="textAreaLeft" fmla="*/ 0 w 353160"/>
                <a:gd name="textAreaRight" fmla="*/ 127440 w 353160"/>
                <a:gd name="textAreaTop" fmla="*/ 54720 h 2100600"/>
                <a:gd name="textAreaBottom" fmla="*/ 2045880 h 21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35800" y="1460520"/>
              <a:ext cx="1262160" cy="10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атическая модель сложной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86560" y="3615120"/>
              <a:ext cx="1262160" cy="10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инамическая  модель сложной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1120" y="5392800"/>
              <a:ext cx="212040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цептуальная модель сложной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59920" y="5446440"/>
              <a:ext cx="212040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изическая модель сложной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1878480" y="3551040"/>
              <a:ext cx="461160" cy="3281760"/>
            </a:xfrm>
            <a:custGeom>
              <a:avLst/>
              <a:gdLst>
                <a:gd name="textAreaLeft" fmla="*/ 294840 w 461160"/>
                <a:gd name="textAreaRight" fmla="*/ 461520 w 461160"/>
                <a:gd name="textAreaTop" fmla="*/ 85320 h 3281760"/>
                <a:gd name="textAreaBottom" fmla="*/ 3196440 h 328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97"/>
                  </a:lnTo>
                  <a:cubicBezTo>
                    <a:pt x="10800" y="9797"/>
                    <a:pt x="5400" y="10697"/>
                    <a:pt x="0" y="10697"/>
                  </a:cubicBezTo>
                  <a:cubicBezTo>
                    <a:pt x="5400" y="10697"/>
                    <a:pt x="10800" y="11597"/>
                    <a:pt x="10800" y="1249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5362920" y="3600720"/>
              <a:ext cx="461160" cy="3182400"/>
            </a:xfrm>
            <a:custGeom>
              <a:avLst/>
              <a:gdLst>
                <a:gd name="textAreaLeft" fmla="*/ 294840 w 461160"/>
                <a:gd name="textAreaRight" fmla="*/ 461520 w 461160"/>
                <a:gd name="textAreaTop" fmla="*/ 82800 h 3182400"/>
                <a:gd name="textAreaBottom" fmla="*/ 3099600 h 318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97"/>
                  </a:lnTo>
                  <a:cubicBezTo>
                    <a:pt x="10800" y="9797"/>
                    <a:pt x="5400" y="10697"/>
                    <a:pt x="0" y="10697"/>
                  </a:cubicBezTo>
                  <a:cubicBezTo>
                    <a:pt x="5400" y="10697"/>
                    <a:pt x="10800" y="11597"/>
                    <a:pt x="10800" y="1249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84360" y="26028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рование системной архите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07D-1799-406D-9587-A7DDDDD204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2514600" y="426708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5867280" y="167652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509-7059-498C-82EF-6031C4CF4E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32441" t="10087" r="27037" b="5451"/>
          <a:stretch/>
        </p:blipFill>
        <p:spPr>
          <a:xfrm>
            <a:off x="4572000" y="14400"/>
            <a:ext cx="4538520" cy="68547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ffff"/>
          </a:solidFill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45000"/>
            <a:ext cx="9113760" cy="1413000"/>
          </a:xfrm>
          <a:prstGeom prst="rect">
            <a:avLst/>
          </a:prstGeom>
          <a:solidFill>
            <a:srgbClr val="f2a89c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516640"/>
            <a:ext cx="45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ьные самостоя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ОО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2600" y="4460760"/>
            <a:ext cx="9113760" cy="973080"/>
          </a:xfrm>
          <a:prstGeom prst="rect">
            <a:avLst/>
          </a:prstGeom>
          <a:solidFill>
            <a:srgbClr val="ff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60" y="4570560"/>
            <a:ext cx="450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Г.Буч и Дж.Румбах унифицируют результаты сво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аботы, объединяя достоинства всех известн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бъектно-ориентированных методов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 проект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fied Method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ерсии 0.8. К проекту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исоединилс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жекобсон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789360"/>
            <a:ext cx="9113760" cy="6764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80" y="3876840"/>
            <a:ext cx="4643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ддержка и разработка языка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- одна и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целей консорциума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MG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. Появление первых до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ументов, содержащих описание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 0/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41720"/>
            <a:ext cx="9113760" cy="650880"/>
          </a:xfrm>
          <a:prstGeom prst="rect">
            <a:avLst/>
          </a:prstGeom>
          <a:solidFill>
            <a:srgbClr val="339966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13000"/>
            <a:ext cx="43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публикован документ с описанием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1.0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ерсия была хорошо определена, обеспечивал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требуемую выразительность и мощность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2600" y="2579760"/>
            <a:ext cx="9113760" cy="561960"/>
          </a:xfrm>
          <a:prstGeom prst="rect">
            <a:avLst/>
          </a:prstGeom>
          <a:solidFill>
            <a:srgbClr val="3366ff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65360"/>
            <a:ext cx="43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 результате  работы инициативной группы (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P, IBM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crosoft, Oracle, Rational Software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др.)  версия 1.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57360"/>
            <a:ext cx="9113760" cy="1023840"/>
          </a:xfrm>
          <a:prstGeom prst="rect">
            <a:avLst/>
          </a:prstGeom>
          <a:solidFill>
            <a:srgbClr val="80008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80" y="1862280"/>
            <a:ext cx="43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оисходит совершенствование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, уделяетс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нимание достижению большей ясности семантики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 также учету предложений новых партне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38160"/>
            <a:ext cx="9113760" cy="620640"/>
          </a:xfrm>
          <a:prstGeom prst="rect">
            <a:avLst/>
          </a:prstGeom>
          <a:solidFill>
            <a:srgbClr val="ffcc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81000"/>
            <a:ext cx="43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8100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25360"/>
            <a:ext cx="4500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публикован проект языка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 2.0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, версия которог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о сих пор официально не принят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2600" y="2579760"/>
            <a:ext cx="9113760" cy="561960"/>
          </a:xfrm>
          <a:prstGeom prst="rect">
            <a:avLst/>
          </a:prstGeom>
          <a:solidFill>
            <a:srgbClr val="3366ff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57360"/>
            <a:ext cx="9113760" cy="1023840"/>
          </a:xfrm>
          <a:prstGeom prst="rect">
            <a:avLst/>
          </a:prstGeom>
          <a:solidFill>
            <a:srgbClr val="80008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13760" cy="950760"/>
          </a:xfrm>
          <a:prstGeom prst="rect">
            <a:avLst/>
          </a:prstGeom>
          <a:solidFill>
            <a:srgbClr val="ff00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080" y="318960"/>
            <a:ext cx="45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татус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пределен как открытый для всех пред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ложений по его доработке.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е является чьей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либо собственностью, не запатентован, но защище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коном об авторском прав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36120" y="6437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6C28-F7E8-4730-B847-F44FCEA6F1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56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UML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общецелевой язык визуального моделирования</a:t>
            </a:r>
            <a:endParaRPr b="1" i="1" lang="en-US" sz="28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2 Общая характеристика и назначение язык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1125360"/>
            <a:ext cx="5761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宋体"/>
              </a:rPr>
              <a:t>U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ет быть использован для построения концептуальных, логических и графических моделей сложных систем различного целевого назна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стандартным средством для составления «чертежей» программного обеспе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U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язык специфиц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U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язык документирова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1008000"/>
            <a:ext cx="126684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98400" y="2708280"/>
            <a:ext cx="127332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84360" y="4538520"/>
            <a:ext cx="1255680" cy="1440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85680" y="2449440"/>
            <a:ext cx="172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ади Бу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30400" y="4233960"/>
            <a:ext cx="172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жеймс Румб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5950080"/>
            <a:ext cx="172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йвар Джекобс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987-6485-4C35-B627-D8D70F42ED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41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b2337"/>
                </a:solidFill>
                <a:latin typeface="Arial Black"/>
              </a:rPr>
              <a:t>Концептуальная модель </a:t>
            </a:r>
            <a:r>
              <a:rPr b="1" i="1" lang="en-US" sz="3200" spc="-1" strike="noStrike">
                <a:solidFill>
                  <a:srgbClr val="9b2337"/>
                </a:solidFill>
                <a:latin typeface="Arial Black"/>
              </a:rPr>
              <a:t>UML</a:t>
            </a:r>
            <a:endParaRPr b="1" i="1" lang="en-US" sz="3200" spc="-1" strike="noStrike">
              <a:solidFill>
                <a:srgbClr val="9b233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rcRect l="19728" t="10265" r="16032" b="7209"/>
          <a:stretch/>
        </p:blipFill>
        <p:spPr>
          <a:xfrm>
            <a:off x="1116000" y="692280"/>
            <a:ext cx="6192720" cy="5765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030-DCB2-488F-91DB-1679E11C41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594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 Black"/>
              </a:rPr>
              <a:t>Словарь </a:t>
            </a:r>
            <a:r>
              <a:rPr b="1" i="1" lang="en-US" sz="3600" spc="-1" strike="noStrike">
                <a:solidFill>
                  <a:srgbClr val="800000"/>
                </a:solidFill>
                <a:latin typeface="Arial Black"/>
              </a:rPr>
              <a:t>UML</a:t>
            </a:r>
            <a:endParaRPr b="1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63700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ущности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- это абстракции, являющиеся основными элементами модели. Сущности являются основными объектно-ориентированными блоками языка. С их помощью можно создавать корректные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Отношен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связывают различные сущ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Диаграммы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группируют представляющие интерес совокупности сущ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258C-4AF2-4CBD-88AA-AA3BD9812C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8360" y="907920"/>
            <a:ext cx="8279280" cy="5208120"/>
            <a:chOff x="468360" y="907920"/>
            <a:chExt cx="8279280" cy="5208120"/>
          </a:xfrm>
        </p:grpSpPr>
        <p:cxnSp>
          <p:nvCxnSpPr>
            <p:cNvPr id="130" name="_s11287"/>
            <p:cNvCxnSpPr>
              <a:stCxn id="131" idx="1"/>
              <a:endCxn id="132" idx="2"/>
            </p:cNvCxnSpPr>
            <p:nvPr/>
          </p:nvCxnSpPr>
          <p:spPr>
            <a:xfrm rot="10800000">
              <a:off x="2951280" y="1650960"/>
              <a:ext cx="828360" cy="409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1283"/>
            <p:cNvCxnSpPr>
              <a:stCxn id="134" idx="1"/>
              <a:endCxn id="132" idx="2"/>
            </p:cNvCxnSpPr>
            <p:nvPr/>
          </p:nvCxnSpPr>
          <p:spPr>
            <a:xfrm rot="10800000">
              <a:off x="2951280" y="1650960"/>
              <a:ext cx="828360" cy="297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1282"/>
            <p:cNvCxnSpPr>
              <a:stCxn id="136" idx="1"/>
              <a:endCxn id="132" idx="2"/>
            </p:cNvCxnSpPr>
            <p:nvPr/>
          </p:nvCxnSpPr>
          <p:spPr>
            <a:xfrm rot="10800000">
              <a:off x="2951280" y="1650960"/>
              <a:ext cx="828360" cy="1860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1281"/>
            <p:cNvCxnSpPr>
              <a:stCxn id="138" idx="1"/>
              <a:endCxn id="132" idx="2"/>
            </p:cNvCxnSpPr>
            <p:nvPr/>
          </p:nvCxnSpPr>
          <p:spPr>
            <a:xfrm rot="10800000">
              <a:off x="2951280" y="1650960"/>
              <a:ext cx="828360" cy="74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1277"/>
            <p:cNvSpPr/>
            <p:nvPr/>
          </p:nvSpPr>
          <p:spPr>
            <a:xfrm>
              <a:off x="468360" y="90792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f8cf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600" spc="-1" strike="noStrike">
                  <a:solidFill>
                    <a:srgbClr val="800000"/>
                  </a:solidFill>
                  <a:latin typeface="Arial"/>
                </a:rPr>
                <a:t>Типы сущностей в </a:t>
              </a:r>
              <a:r>
                <a:rPr b="1" i="1" lang="en-US" sz="2600" spc="-1" strike="noStrike">
                  <a:solidFill>
                    <a:srgbClr val="800000"/>
                  </a:solidFill>
                  <a:latin typeface="Arial"/>
                </a:rPr>
                <a:t>UM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1278"/>
            <p:cNvSpPr/>
            <p:nvPr/>
          </p:nvSpPr>
          <p:spPr>
            <a:xfrm>
              <a:off x="3780000" y="202392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1279"/>
            <p:cNvSpPr/>
            <p:nvPr/>
          </p:nvSpPr>
          <p:spPr>
            <a:xfrm>
              <a:off x="3780000" y="313992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1280"/>
            <p:cNvSpPr/>
            <p:nvPr/>
          </p:nvSpPr>
          <p:spPr>
            <a:xfrm>
              <a:off x="3780000" y="425628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1286"/>
            <p:cNvSpPr/>
            <p:nvPr/>
          </p:nvSpPr>
          <p:spPr>
            <a:xfrm>
              <a:off x="3780000" y="537228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80000" y="2041920"/>
              <a:ext cx="4967640" cy="73872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Структурные сущ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0000" y="3152880"/>
              <a:ext cx="4967640" cy="73872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Поведенческие сущ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80000" y="4263840"/>
              <a:ext cx="4967640" cy="741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Группирующие сущ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80000" y="537228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Аннотационные сущ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5EEA-8385-4071-A0EE-4B48BF0D58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480" y="247680"/>
            <a:ext cx="6084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Структурные сущности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- это имена существительные в моделях на языке UML. Как правило, они представляют собой статические части модели, соответствующие концептуальным или физическим элементам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13984" t="34077" r="10174" b="12375"/>
          <a:stretch/>
        </p:blipFill>
        <p:spPr>
          <a:xfrm>
            <a:off x="1039680" y="2408400"/>
            <a:ext cx="7398000" cy="378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55D3-1781-40E6-AF20-AEE2F9C36B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0" t="22847" r="0" b="0"/>
          <a:stretch/>
        </p:blipFill>
        <p:spPr>
          <a:xfrm>
            <a:off x="0" y="1566720"/>
            <a:ext cx="9144000" cy="529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47" name=""/>
          <p:cNvSpPr/>
          <p:nvPr/>
        </p:nvSpPr>
        <p:spPr>
          <a:xfrm>
            <a:off x="87480" y="247680"/>
            <a:ext cx="608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Структурные сущности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- это имена существительные в моделях на языке UM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3485" t="23633" r="10920" b="14265"/>
          <a:stretch/>
        </p:blipFill>
        <p:spPr>
          <a:xfrm>
            <a:off x="611280" y="1557360"/>
            <a:ext cx="7777080" cy="40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D2E9-F776-4C35-8ABC-A60DD1D529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2:40:30Z</dcterms:created>
  <dc:creator>Пользователь</dc:creator>
  <dc:description/>
  <dc:language>en-US</dc:language>
  <cp:lastModifiedBy>Антон</cp:lastModifiedBy>
  <dcterms:modified xsi:type="dcterms:W3CDTF">2009-12-18T07:04:21Z</dcterms:modified>
  <cp:revision>69</cp:revision>
  <dc:subject/>
  <dc:title>Система оценки учебных достижений студентов заочной формы обучения </dc:title>
</cp:coreProperties>
</file>